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7E3-32D0-4907-874C-ACA1A958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B6B-1C38-42F0-8DDA-1145732C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9A1-DFDB-4473-9E09-53DD2038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338-6C44-45ED-A2B9-3C76C85D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0A5-0F0A-4450-99D3-177F71B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81B-746C-4B95-8066-8A10CB7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FB8-7EF0-43BC-A583-9B7A1EC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5D6-E4EA-4699-A291-D03F3AE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4BA-53E0-4DBF-AD81-471601BF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63E-4C32-4696-9E03-2CAA5FB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9EA-4859-43C2-8C7D-FDEA5B2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6A8-EE64-462F-9C58-63D600F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133-763C-412F-8F25-9E9C8E0E7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kpona@g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258920" y="0"/>
            <a:ext cx="7885080" cy="3429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2060"/>
                </a:solidFill>
                <a:latin typeface="Bernard MT Condensed"/>
              </a:rPr>
              <a:t>Le Centre d’Echange d’Informations du Béni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2060"/>
                </a:solidFill>
                <a:latin typeface="Bernard MT Condensed"/>
              </a:rPr>
              <a:t>De Mai 2012 à Février 2013- </a:t>
            </a:r>
            <a:r>
              <a:rPr b="1" i="1" lang="fr-FR" sz="5400" spc="-1" strike="noStrike">
                <a:solidFill>
                  <a:srgbClr val="002060"/>
                </a:solidFill>
                <a:latin typeface="바탕"/>
                <a:ea typeface="바탕"/>
              </a:rPr>
              <a:t>Quel bila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space réservé du texte 4"/>
          <p:cNvSpPr/>
          <p:nvPr/>
        </p:nvSpPr>
        <p:spPr>
          <a:xfrm>
            <a:off x="1258920" y="3645000"/>
            <a:ext cx="7885080" cy="2636640"/>
          </a:xfrm>
          <a:prstGeom prst="rect">
            <a:avLst/>
          </a:prstGeom>
          <a:solidFill>
            <a:srgbClr val="ffffcc"/>
          </a:soli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2060"/>
                </a:solidFill>
                <a:uFillTx/>
                <a:latin typeface="Georgia"/>
                <a:ea typeface="Arabic Typesetting"/>
              </a:rPr>
              <a:t>Hugues Adeloui Akp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Aharoni"/>
                <a:ea typeface="Aharoni"/>
                <a:hlinkClick r:id="rId2"/>
              </a:rPr>
              <a:t>akpona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necteur droit 7"/>
          <p:cNvSpPr/>
          <p:nvPr/>
        </p:nvSpPr>
        <p:spPr>
          <a:xfrm>
            <a:off x="1258920" y="3500280"/>
            <a:ext cx="7885080" cy="0"/>
          </a:xfrm>
          <a:prstGeom prst="line">
            <a:avLst/>
          </a:prstGeom>
          <a:ln w="792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214280" y="1222200"/>
            <a:ext cx="7929720" cy="1068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375e"/>
                </a:solidFill>
                <a:latin typeface="Cooper Black"/>
              </a:rPr>
              <a:t>Atelier d’information et de formation des Journalistes sur le C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141720"/>
            <a:ext cx="7885080" cy="10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24 Journalistes (Presse écrite, orale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258920" y="4321080"/>
            <a:ext cx="7345440" cy="836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Information théorique sur le C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5300280"/>
            <a:ext cx="7561080" cy="129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Manipulations pratiques sur les CHM: Evènements, Actualités et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1214280" y="0"/>
            <a:ext cx="792972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22 Février 2013, Hotel Odjola, Coto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1214280" y="0"/>
            <a:ext cx="7929720" cy="2043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Collecte de données sur  la recherche en matière de gestion forest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En collaboration avec le PF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791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360" y="1484280"/>
            <a:ext cx="712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Renforcer le sous répertoire recherche scientifique en informat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214280" y="0"/>
            <a:ext cx="184500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Sollicitation de deux membres du noyau CHM ayant bénéficié des formations nationales pour la formation des journalistes et ONGs</a:t>
            </a: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214280" y="0"/>
            <a:ext cx="184500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Ac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el 1"/>
          <p:cNvSpPr/>
          <p:nvPr/>
        </p:nvSpPr>
        <p:spPr>
          <a:xfrm>
            <a:off x="1403280" y="3068640"/>
            <a:ext cx="741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Augmentation du nombre de personnes inscrites comme contributeur sur le CHM≈ 46 nouv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1555920" y="4869000"/>
            <a:ext cx="741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Augmentation sensible du nombre et de la fréquence e visites sur le CHM ≈ 3735 nouveaux visi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11"/>
          <p:cNvSpPr/>
          <p:nvPr/>
        </p:nvSpPr>
        <p:spPr>
          <a:xfrm>
            <a:off x="3132000" y="2781360"/>
            <a:ext cx="5137200" cy="1342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0" spc="-1" strike="noStrike">
                <a:solidFill>
                  <a:srgbClr val="000000"/>
                </a:solidFill>
                <a:latin typeface="Georgia"/>
              </a:rPr>
              <a:t>Merc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Étoile à 4 branches 10"/>
          <p:cNvSpPr/>
          <p:nvPr/>
        </p:nvSpPr>
        <p:spPr>
          <a:xfrm>
            <a:off x="3059280" y="40464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toile à 4 branches 13"/>
          <p:cNvSpPr/>
          <p:nvPr/>
        </p:nvSpPr>
        <p:spPr>
          <a:xfrm>
            <a:off x="3211560" y="55728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Étoile à 4 branches 14"/>
          <p:cNvSpPr/>
          <p:nvPr/>
        </p:nvSpPr>
        <p:spPr>
          <a:xfrm>
            <a:off x="3363840" y="70956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Étoile à 4 branches 15"/>
          <p:cNvSpPr/>
          <p:nvPr/>
        </p:nvSpPr>
        <p:spPr>
          <a:xfrm>
            <a:off x="3516480" y="86184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toile à 4 branches 16"/>
          <p:cNvSpPr/>
          <p:nvPr/>
        </p:nvSpPr>
        <p:spPr>
          <a:xfrm>
            <a:off x="3668760" y="101448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Étoile à 4 branches 17"/>
          <p:cNvSpPr/>
          <p:nvPr/>
        </p:nvSpPr>
        <p:spPr>
          <a:xfrm>
            <a:off x="3821040" y="116676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toile à 4 branches 18"/>
          <p:cNvSpPr/>
          <p:nvPr/>
        </p:nvSpPr>
        <p:spPr>
          <a:xfrm>
            <a:off x="3973680" y="131904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Étoile à 4 branches 19"/>
          <p:cNvSpPr/>
          <p:nvPr/>
        </p:nvSpPr>
        <p:spPr>
          <a:xfrm>
            <a:off x="4125960" y="147168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Étoile à 4 branches 20"/>
          <p:cNvSpPr/>
          <p:nvPr/>
        </p:nvSpPr>
        <p:spPr>
          <a:xfrm>
            <a:off x="4278240" y="162396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toile à 4 branches 21"/>
          <p:cNvSpPr/>
          <p:nvPr/>
        </p:nvSpPr>
        <p:spPr>
          <a:xfrm>
            <a:off x="4430880" y="177624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Étoile à 4 branches 22"/>
          <p:cNvSpPr/>
          <p:nvPr/>
        </p:nvSpPr>
        <p:spPr>
          <a:xfrm>
            <a:off x="4583160" y="192888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toile à 4 branches 23"/>
          <p:cNvSpPr/>
          <p:nvPr/>
        </p:nvSpPr>
        <p:spPr>
          <a:xfrm>
            <a:off x="4735440" y="208116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Étoile à 4 branches 24"/>
          <p:cNvSpPr/>
          <p:nvPr/>
        </p:nvSpPr>
        <p:spPr>
          <a:xfrm>
            <a:off x="4888080" y="223344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Étoile à 4 branches 25"/>
          <p:cNvSpPr/>
          <p:nvPr/>
        </p:nvSpPr>
        <p:spPr>
          <a:xfrm>
            <a:off x="5040360" y="238608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toile à 4 branches 26"/>
          <p:cNvSpPr/>
          <p:nvPr/>
        </p:nvSpPr>
        <p:spPr>
          <a:xfrm>
            <a:off x="5192640" y="253836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Étoile à 4 branches 30"/>
          <p:cNvSpPr/>
          <p:nvPr/>
        </p:nvSpPr>
        <p:spPr>
          <a:xfrm>
            <a:off x="6516720" y="41497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toile à 4 branches 35"/>
          <p:cNvSpPr/>
          <p:nvPr/>
        </p:nvSpPr>
        <p:spPr>
          <a:xfrm>
            <a:off x="2771640" y="115920"/>
            <a:ext cx="287640" cy="28872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Étoile à 4 branches 36"/>
          <p:cNvSpPr/>
          <p:nvPr/>
        </p:nvSpPr>
        <p:spPr>
          <a:xfrm>
            <a:off x="2627280" y="0"/>
            <a:ext cx="289080" cy="287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Étoile à 4 branches 37"/>
          <p:cNvSpPr/>
          <p:nvPr/>
        </p:nvSpPr>
        <p:spPr>
          <a:xfrm>
            <a:off x="2916360" y="26028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toile à 4 branches 38"/>
          <p:cNvSpPr/>
          <p:nvPr/>
        </p:nvSpPr>
        <p:spPr>
          <a:xfrm>
            <a:off x="6669000" y="43020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Étoile à 4 branches 39"/>
          <p:cNvSpPr/>
          <p:nvPr/>
        </p:nvSpPr>
        <p:spPr>
          <a:xfrm>
            <a:off x="6821640" y="4454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toile à 4 branches 40"/>
          <p:cNvSpPr/>
          <p:nvPr/>
        </p:nvSpPr>
        <p:spPr>
          <a:xfrm>
            <a:off x="6973920" y="4606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toile à 4 branches 41"/>
          <p:cNvSpPr/>
          <p:nvPr/>
        </p:nvSpPr>
        <p:spPr>
          <a:xfrm>
            <a:off x="7126200" y="47592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Étoile à 4 branches 42"/>
          <p:cNvSpPr/>
          <p:nvPr/>
        </p:nvSpPr>
        <p:spPr>
          <a:xfrm>
            <a:off x="7278840" y="49118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toile à 4 branches 43"/>
          <p:cNvSpPr/>
          <p:nvPr/>
        </p:nvSpPr>
        <p:spPr>
          <a:xfrm>
            <a:off x="7431120" y="50641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Étoile à 4 branches 44"/>
          <p:cNvSpPr/>
          <p:nvPr/>
        </p:nvSpPr>
        <p:spPr>
          <a:xfrm>
            <a:off x="7583400" y="52164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toile à 4 branches 45"/>
          <p:cNvSpPr/>
          <p:nvPr/>
        </p:nvSpPr>
        <p:spPr>
          <a:xfrm>
            <a:off x="7736040" y="53690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Étoile à 4 branches 46"/>
          <p:cNvSpPr/>
          <p:nvPr/>
        </p:nvSpPr>
        <p:spPr>
          <a:xfrm>
            <a:off x="7888320" y="55213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Étoile à 4 branches 47"/>
          <p:cNvSpPr/>
          <p:nvPr/>
        </p:nvSpPr>
        <p:spPr>
          <a:xfrm>
            <a:off x="8040600" y="56736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toile à 4 branches 48"/>
          <p:cNvSpPr/>
          <p:nvPr/>
        </p:nvSpPr>
        <p:spPr>
          <a:xfrm>
            <a:off x="8193240" y="58262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Étoile à 4 branches 49"/>
          <p:cNvSpPr/>
          <p:nvPr/>
        </p:nvSpPr>
        <p:spPr>
          <a:xfrm>
            <a:off x="8345520" y="59785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toile à 4 branches 50"/>
          <p:cNvSpPr/>
          <p:nvPr/>
        </p:nvSpPr>
        <p:spPr>
          <a:xfrm>
            <a:off x="8497800" y="61308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Étoile à 4 branches 51"/>
          <p:cNvSpPr/>
          <p:nvPr/>
        </p:nvSpPr>
        <p:spPr>
          <a:xfrm>
            <a:off x="8650440" y="62834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Étoile à 4 branches 52"/>
          <p:cNvSpPr/>
          <p:nvPr/>
        </p:nvSpPr>
        <p:spPr>
          <a:xfrm>
            <a:off x="8802720" y="64357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toile à 4 branches 53"/>
          <p:cNvSpPr/>
          <p:nvPr/>
        </p:nvSpPr>
        <p:spPr>
          <a:xfrm>
            <a:off x="8955000" y="658800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85920" y="620640"/>
            <a:ext cx="7858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2060"/>
                </a:solidFill>
                <a:latin typeface="Times New Roman"/>
              </a:rPr>
              <a:t>Atelier de remise à niveau des partenaires du Centre d’Echange d’informations de la Convention sur la Diversité Biologique; Hôtel du 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214280" y="0"/>
            <a:ext cx="393408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22 – 23 Mai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3357360"/>
            <a:ext cx="7345440" cy="76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10 Participants dot deux nouve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58920" y="4221000"/>
            <a:ext cx="7345440" cy="61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Renforcement des connaiss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1258920" y="4941720"/>
            <a:ext cx="7345440" cy="935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Responsabilisation des participants sur des s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14280" y="0"/>
            <a:ext cx="177336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Acqu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58920" y="476280"/>
          <a:ext cx="7634160" cy="6248520"/>
        </p:xfrm>
        <a:graphic>
          <a:graphicData uri="http://schemas.openxmlformats.org/drawingml/2006/table">
            <a:tbl>
              <a:tblPr/>
              <a:tblGrid>
                <a:gridCol w="2262240"/>
                <a:gridCol w="1473120"/>
                <a:gridCol w="1455840"/>
                <a:gridCol w="1217520"/>
                <a:gridCol w="1225440"/>
              </a:tblGrid>
              <a:tr h="152496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s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rtoire du site où  poster l’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éc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obiodiversit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p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0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re protégées-faune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diversité, sous répertoire 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arou, Amoussou et Djon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lettres APA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s répertoire 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arou &amp; Amousso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p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0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ème communication sur Changement climatiq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res conven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yihouéno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1214280" y="0"/>
            <a:ext cx="170208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Ac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58920" y="620640"/>
          <a:ext cx="7885080" cy="6096240"/>
        </p:xfrm>
        <a:graphic>
          <a:graphicData uri="http://schemas.openxmlformats.org/drawingml/2006/table">
            <a:tbl>
              <a:tblPr/>
              <a:tblGrid>
                <a:gridCol w="2336760"/>
                <a:gridCol w="1522440"/>
                <a:gridCol w="1503360"/>
                <a:gridCol w="1257120"/>
                <a:gridCol w="1265400"/>
              </a:tblGrid>
              <a:tr h="122004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s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rtoire du site où  poster l’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éc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s répertoire Fl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ellement réali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diversité marine et aquati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systè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ellement réali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e rouge des espèces menacées Bé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re protégé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 réali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is et decr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dre législatif et règlement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ngbédji et Di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ali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éation de liens avec les ONG, les documents d’ONG et les documents AE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o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udi 24 mai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 réali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85920" y="620640"/>
            <a:ext cx="7858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2060"/>
                </a:solidFill>
                <a:latin typeface="Times New Roman"/>
              </a:rPr>
              <a:t>Atelier d’information des ONGs sur le Centre d’Echange d’Informations lors du quatrième forum biodiversit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214280" y="0"/>
            <a:ext cx="393408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25 Aoû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2736360"/>
            <a:ext cx="4176720" cy="76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29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58920" y="3601800"/>
            <a:ext cx="7345440" cy="834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Information théorique sur le CHM et son importance pour les O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1258560" y="4581360"/>
            <a:ext cx="6481800" cy="64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Démonstration sur le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7128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Sollicitation constante du Gestionnaire du CHM pour annoncer des évènements et mettre des actuali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214280" y="0"/>
            <a:ext cx="184500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Ac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214280" y="0"/>
            <a:ext cx="6742440" cy="5814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Un répertoire APA sur le C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6858000" y="587520"/>
            <a:ext cx="2286000" cy="329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Georgia"/>
              </a:rPr>
              <a:t>Création de répertoires sur l’APA sur le CHM – Bénin: bj.chm-cbd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9" descr="C:\Users\User\AppData\Local\Microsoft\Windows\Temporary Internet Files\Content.Word\Nouvelle image (2).bmp"/>
          <p:cNvPicPr/>
          <p:nvPr/>
        </p:nvPicPr>
        <p:blipFill>
          <a:blip r:embed="rId2"/>
          <a:stretch/>
        </p:blipFill>
        <p:spPr>
          <a:xfrm>
            <a:off x="4143240" y="3857760"/>
            <a:ext cx="5000760" cy="3000240"/>
          </a:xfrm>
          <a:prstGeom prst="rect">
            <a:avLst/>
          </a:prstGeom>
          <a:ln w="0">
            <a:noFill/>
          </a:ln>
        </p:spPr>
      </p:pic>
      <p:pic>
        <p:nvPicPr>
          <p:cNvPr id="70" name="Image 10" descr="C:\Users\User\AppData\Local\Microsoft\Windows\Temporary Internet Files\Content.Word\Nouvelle image (4).bmp"/>
          <p:cNvPicPr/>
          <p:nvPr/>
        </p:nvPicPr>
        <p:blipFill>
          <a:blip r:embed="rId3"/>
          <a:stretch/>
        </p:blipFill>
        <p:spPr>
          <a:xfrm>
            <a:off x="1214280" y="571680"/>
            <a:ext cx="5761080" cy="33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3"/>
          <p:cNvSpPr/>
          <p:nvPr/>
        </p:nvSpPr>
        <p:spPr>
          <a:xfrm>
            <a:off x="1214280" y="0"/>
            <a:ext cx="7929720" cy="1068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21 – 22  Février 2013 , Hotel Odjola, Coton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IMG9310"/>
          <p:cNvPicPr/>
          <p:nvPr/>
        </p:nvPicPr>
        <p:blipFill>
          <a:blip r:embed="rId2"/>
          <a:stretch/>
        </p:blipFill>
        <p:spPr>
          <a:xfrm>
            <a:off x="1258920" y="1268280"/>
            <a:ext cx="3889440" cy="291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IMG9315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9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214280" y="1006560"/>
            <a:ext cx="7929720" cy="2043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375e"/>
                </a:solidFill>
                <a:latin typeface="Cooper Black"/>
              </a:rPr>
              <a:t>Atelier de formation des ONGs  ayant reçu un financement du “Programme de Microfinancement du FEM à travers le PNUD sur le C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3457080"/>
            <a:ext cx="4176720" cy="76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16 O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58920" y="4321080"/>
            <a:ext cx="7345440" cy="836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Information théorique sur le C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1258560" y="5300280"/>
            <a:ext cx="7561080" cy="129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* Manipulations pratiques sur les CHM: Evènements, Actualités, Fichier et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214280" y="0"/>
            <a:ext cx="7929720" cy="1068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Black"/>
              </a:rPr>
              <a:t>21 Février 2013 , Hotel Odjola, Coton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3:41:56Z</dcterms:created>
  <dc:creator>akpona hugues</dc:creator>
  <dc:description/>
  <dc:language>en-US</dc:language>
  <cp:lastModifiedBy>User</cp:lastModifiedBy>
  <dcterms:modified xsi:type="dcterms:W3CDTF">2013-03-12T09:09:34Z</dcterms:modified>
  <cp:revision>49</cp:revision>
  <dc:subject/>
  <dc:title>Diapositive 1</dc:title>
</cp:coreProperties>
</file>